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4B98-E8D0-400B-8086-5EEA9DB607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6FD6-B361-4FFF-BBD6-35870A8C623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ain, discussions can be monitored and corrections for errors elicited post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E14F-11BC-4EA4-B757-A88DDAEF481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019-04AA-4D91-B079-54C6765BB69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FD0-FE7C-4BB8-978A-851A90BA3E5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228-1046-4406-A80E-A8BFFBD8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B78-C9CD-4FE6-A369-C2DD93FB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321-5C9D-4603-805C-7823B51D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A1B-CBAC-46DF-A6B6-3BB57699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427-8D2E-4AF6-8032-EB11D81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44B-BABB-4389-9E49-FC45B33F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744-1D74-49C2-A039-E285FAEC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97A-54F8-4255-AC66-08A16E8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DAF-AC2E-435D-B861-619CF87F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386-D52D-4E22-BC0B-E57497B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D13-7F6A-4214-ACA0-C4D9F39F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91D-CC06-4E14-8B7F-C3E127C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9846-D1C2-4036-94D4-1C5C1EB65B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hyperlink" Target="http://eewiki.newint.org/index.php/Country_profile_-_Indonesia" TargetMode="External"/><Relationship Id="rId4" Type="http://schemas.openxmlformats.org/officeDocument/2006/relationships/hyperlink" Target="http://eewiki.newint.org/index.php/Country_profile_-_Malaw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QUIZ: Indonesia, Malawi or Mauriti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516640"/>
            <a:ext cx="740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6011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ich countries were these photos taken i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263600"/>
            <a:ext cx="312120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203640" y="2557440"/>
            <a:ext cx="25081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7640" y="4432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443640" y="43070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at do you know about these countrie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2200" y="155736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75640" y="108900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067280" y="3994200"/>
            <a:ext cx="1865160" cy="27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031760" y="46101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6500880" y="328464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412920" y="1754280"/>
            <a:ext cx="11491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7"/>
          <a:stretch/>
        </p:blipFill>
        <p:spPr>
          <a:xfrm>
            <a:off x="2725560" y="3713040"/>
            <a:ext cx="1202040" cy="80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5280120" y="2139840"/>
            <a:ext cx="1306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ich (of Malawi, Indonesia or Mauritius) are the following statements abou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quickly scan the 3 articles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7640" y="1700280"/>
            <a:ext cx="8785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eewiki.newint.org/index.php/Country_profile_-_Indone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ewiki.newint.org/index.php/Country_profile_-_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2774880" y="4292640"/>
            <a:ext cx="114624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3059280" y="297324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01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59280" y="1599840"/>
            <a:ext cx="202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651640" y="165240"/>
            <a:ext cx="1323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, compare and learn new language from all 3 artic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sier English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Country_profile_-_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 http://eewiki.newint.org/index.php/Country_profile_-_Mala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iginal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4/01/country-profile-mauritiu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5/01/country-profile-indonesi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6/01/malaw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1071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4:37:08Z</dcterms:created>
  <dc:creator>Linda Ruas</dc:creator>
  <dc:description/>
  <dc:language>en-US</dc:language>
  <cp:lastModifiedBy>Linda Ruas</cp:lastModifiedBy>
  <dcterms:modified xsi:type="dcterms:W3CDTF">2014-05-26T14:19:17Z</dcterms:modified>
  <cp:revision>28</cp:revision>
  <dc:subject/>
  <dc:title>Countries</dc:title>
</cp:coreProperties>
</file>